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E9E3-3753-4AB6-A259-3566F5F6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7D4-218A-43DD-B1FC-F60C02EC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44F1-39B8-4800-AA9D-3316C4F90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19EC-37BF-43B6-9708-64E3E38B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7229-B0E1-4D28-8764-65E40D8D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B412-9B1E-4B5D-A1C0-EF45CA5A2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499D-EC2E-4967-846C-0D3E42A3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44F-E17C-415D-92B1-5C3C4400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2503-A851-4BD9-9B38-B7117101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139F-DA5D-4F45-BD37-AC9C3E1F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4C46-65D0-4234-BDA7-97BDF388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0910-AC01-4480-BAD5-BC3A0A3EB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064E-861E-4F32-8B33-98CFDE7670B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84360" y="115920"/>
            <a:ext cx="718920" cy="6174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6372360" y="404640"/>
            <a:ext cx="2323800" cy="1335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3846600" y="189000"/>
            <a:ext cx="4829040" cy="133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187280" y="476280"/>
            <a:ext cx="374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Library and Documentation Systems Di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o.org/es/esn/publications/fna/" TargetMode="External"/><Relationship Id="rId2" Type="http://schemas.openxmlformats.org/officeDocument/2006/relationships/hyperlink" Target="http://www.ipfsaph.org/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ntology Life 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O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blems and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nuary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O proble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ast amount of information available on the FAO web-site (500,000+ HTML files and growing) published under a completely decentralized appro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O information systems unaware of each other, making difficult comprehensive access to a variety of information in different doma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O data (e.g., a number from a statistical database, a document, a map, a photograph) are represented, stored, and formatted in incompatible 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FAOBIB uses CDS-ISIS, WAICENT uses Oracle, AGROVOC uses MySQ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country in FAOSTAT represented as string, in AGROVOC as term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O terminologies cover overlapping areas but are all developed independently of each other and contain information lacking in but useful to the oth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AGROVOC is multilingual and contains semantics such as BT/NT relations, FAO Glossary contains definitions, FAOTERM contains synonyms, Fisheries Glossary contains specialized 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solve th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Develop metadata standard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operability between disparate and distributed FAO IS to allow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haring and 'awareness' among the various data domains or information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ct the semantics for each FAO domain and for resource/data typ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nhance current IR mechanisms (e.g. NLP, multilingual concept resolution, query expansion, etc.) for better understanding of user information needs via, e.g.,concept-based search and retrieval, for organization of resources and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able reasoning over heterogeneous data sets that facilitate knowledge discov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fore we need to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ont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y and integrate K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y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ich the KOS for greater domain, lexical, and multilingual coverag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k to databases, web pages, email addresse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/extend standards for common description of agricultural resour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tools and workflows f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tributed creation and mainten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K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ty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..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integrat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FAO IS via seman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48000" y="3213000"/>
            <a:ext cx="2160720" cy="187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42920" y="2349360"/>
            <a:ext cx="1584360" cy="1224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4437000"/>
            <a:ext cx="1657440" cy="11527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h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5589720"/>
            <a:ext cx="1800360" cy="1079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di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90920" y="1773360"/>
            <a:ext cx="1512720" cy="936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s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659640" y="4292640"/>
            <a:ext cx="1512720" cy="577800"/>
          </a:xfrm>
          <a:prstGeom prst="ellipse">
            <a:avLst/>
          </a:prstGeom>
          <a:solidFill>
            <a:srgbClr val="00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372360" y="2205000"/>
            <a:ext cx="1439640" cy="1152720"/>
          </a:xfrm>
          <a:prstGeom prst="ellipse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OST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96000" y="5445000"/>
            <a:ext cx="1297080" cy="9352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R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2062800">
            <a:off x="2484000" y="3428640"/>
            <a:ext cx="936720" cy="144360"/>
          </a:xfrm>
          <a:prstGeom prst="leftRightArrow">
            <a:avLst>
              <a:gd name="adj1" fmla="val 50000"/>
              <a:gd name="adj2" fmla="val 1291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083800">
            <a:off x="4079520" y="2984400"/>
            <a:ext cx="397080" cy="133200"/>
          </a:xfrm>
          <a:prstGeom prst="leftRightArrow">
            <a:avLst>
              <a:gd name="adj1" fmla="val 50000"/>
              <a:gd name="adj2" fmla="val 5934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9626000">
            <a:off x="2411280" y="4436640"/>
            <a:ext cx="936720" cy="144360"/>
          </a:xfrm>
          <a:prstGeom prst="leftRightArrow">
            <a:avLst>
              <a:gd name="adj1" fmla="val 50000"/>
              <a:gd name="adj2" fmla="val 1291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9158600">
            <a:off x="5435640" y="3357720"/>
            <a:ext cx="936720" cy="144360"/>
          </a:xfrm>
          <a:prstGeom prst="leftRightArrow">
            <a:avLst>
              <a:gd name="adj1" fmla="val 50000"/>
              <a:gd name="adj2" fmla="val 1291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rot="468600">
            <a:off x="5508360" y="4365360"/>
            <a:ext cx="936360" cy="144360"/>
          </a:xfrm>
          <a:prstGeom prst="leftRightArrow">
            <a:avLst>
              <a:gd name="adj1" fmla="val 50000"/>
              <a:gd name="adj2" fmla="val 1291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2062800">
            <a:off x="4932000" y="4868640"/>
            <a:ext cx="936720" cy="144360"/>
          </a:xfrm>
          <a:prstGeom prst="leftRightArrow">
            <a:avLst>
              <a:gd name="adj1" fmla="val 50000"/>
              <a:gd name="adj2" fmla="val 1291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6346200">
            <a:off x="3649680" y="5071680"/>
            <a:ext cx="396720" cy="133200"/>
          </a:xfrm>
          <a:prstGeom prst="leftRightArrow">
            <a:avLst>
              <a:gd name="adj1" fmla="val 50000"/>
              <a:gd name="adj2" fmla="val 5929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40360" y="1700280"/>
            <a:ext cx="2303640" cy="1800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15280" y="177336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516720" y="3789360"/>
            <a:ext cx="194292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86800" y="386244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1413000"/>
            <a:ext cx="1942920" cy="136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46440" y="148608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39640" y="1989000"/>
            <a:ext cx="2232000" cy="165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1640" y="198900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4076640"/>
            <a:ext cx="2303280" cy="158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14972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56000" y="5229360"/>
            <a:ext cx="1942920" cy="1557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5720" y="530064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08720" y="5084640"/>
            <a:ext cx="1942920" cy="1368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78800" y="515772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3519360" y="3429000"/>
            <a:ext cx="1844280" cy="1511640"/>
            <a:chOff x="3519360" y="3429000"/>
            <a:chExt cx="1844280" cy="1511640"/>
          </a:xfrm>
        </p:grpSpPr>
        <p:grpSp>
          <p:nvGrpSpPr>
            <p:cNvPr id="85" name=""/>
            <p:cNvGrpSpPr/>
            <p:nvPr/>
          </p:nvGrpSpPr>
          <p:grpSpPr>
            <a:xfrm>
              <a:off x="3519360" y="3429000"/>
              <a:ext cx="1051560" cy="864720"/>
              <a:chOff x="3519360" y="3429000"/>
              <a:chExt cx="1051560" cy="864720"/>
            </a:xfrm>
          </p:grpSpPr>
          <p:sp>
            <p:nvSpPr>
              <p:cNvPr id="86" name=""/>
              <p:cNvSpPr/>
              <p:nvPr/>
            </p:nvSpPr>
            <p:spPr>
              <a:xfrm>
                <a:off x="3681360" y="3744000"/>
                <a:ext cx="242280" cy="236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4086000" y="3429000"/>
                <a:ext cx="242280" cy="237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3519360" y="4056840"/>
                <a:ext cx="242280" cy="236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328640" y="4056840"/>
                <a:ext cx="242280" cy="236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924000" y="4056840"/>
                <a:ext cx="242280" cy="236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" name=""/>
              <p:cNvCxnSpPr>
                <a:stCxn id="87" idx="2"/>
                <a:endCxn id="86" idx="7"/>
              </p:cNvCxnSpPr>
              <p:nvPr/>
            </p:nvCxnSpPr>
            <p:spPr>
              <a:xfrm flipH="1">
                <a:off x="3887640" y="3548520"/>
                <a:ext cx="198360" cy="23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2" name=""/>
              <p:cNvCxnSpPr>
                <a:stCxn id="86" idx="3"/>
                <a:endCxn id="88" idx="0"/>
              </p:cNvCxnSpPr>
              <p:nvPr/>
            </p:nvCxnSpPr>
            <p:spPr>
              <a:xfrm flipH="1">
                <a:off x="3640320" y="3945960"/>
                <a:ext cx="76680" cy="11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3" name=""/>
              <p:cNvCxnSpPr>
                <a:stCxn id="86" idx="5"/>
                <a:endCxn id="90" idx="1"/>
              </p:cNvCxnSpPr>
              <p:nvPr/>
            </p:nvCxnSpPr>
            <p:spPr>
              <a:xfrm>
                <a:off x="3888000" y="3945960"/>
                <a:ext cx="71640" cy="145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4" name=""/>
              <p:cNvCxnSpPr>
                <a:stCxn id="87" idx="5"/>
                <a:endCxn id="89" idx="0"/>
              </p:cNvCxnSpPr>
              <p:nvPr/>
            </p:nvCxnSpPr>
            <p:spPr>
              <a:xfrm>
                <a:off x="4293000" y="3631320"/>
                <a:ext cx="157320" cy="426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95" name=""/>
            <p:cNvGrpSpPr/>
            <p:nvPr/>
          </p:nvGrpSpPr>
          <p:grpSpPr>
            <a:xfrm>
              <a:off x="4311360" y="3429000"/>
              <a:ext cx="1052280" cy="864720"/>
              <a:chOff x="4311360" y="3429000"/>
              <a:chExt cx="1052280" cy="864720"/>
            </a:xfrm>
          </p:grpSpPr>
          <p:sp>
            <p:nvSpPr>
              <p:cNvPr id="96" name=""/>
              <p:cNvSpPr/>
              <p:nvPr/>
            </p:nvSpPr>
            <p:spPr>
              <a:xfrm>
                <a:off x="4473360" y="3744000"/>
                <a:ext cx="242640" cy="236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878360" y="3429000"/>
                <a:ext cx="242640" cy="237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11360" y="4056840"/>
                <a:ext cx="242640" cy="236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21000" y="4056840"/>
                <a:ext cx="242640" cy="236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716000" y="4056840"/>
                <a:ext cx="242640" cy="236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1" name=""/>
              <p:cNvCxnSpPr>
                <a:stCxn id="97" idx="2"/>
                <a:endCxn id="96" idx="7"/>
              </p:cNvCxnSpPr>
              <p:nvPr/>
            </p:nvCxnSpPr>
            <p:spPr>
              <a:xfrm flipH="1">
                <a:off x="4679640" y="3548520"/>
                <a:ext cx="198360" cy="23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2" name=""/>
              <p:cNvCxnSpPr>
                <a:stCxn id="96" idx="3"/>
                <a:endCxn id="98" idx="0"/>
              </p:cNvCxnSpPr>
              <p:nvPr/>
            </p:nvCxnSpPr>
            <p:spPr>
              <a:xfrm flipH="1">
                <a:off x="4432680" y="3945960"/>
                <a:ext cx="76680" cy="11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3" name=""/>
              <p:cNvCxnSpPr>
                <a:stCxn id="96" idx="5"/>
                <a:endCxn id="100" idx="1"/>
              </p:cNvCxnSpPr>
              <p:nvPr/>
            </p:nvCxnSpPr>
            <p:spPr>
              <a:xfrm>
                <a:off x="4680000" y="3945960"/>
                <a:ext cx="71640" cy="145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4" name=""/>
              <p:cNvCxnSpPr>
                <a:stCxn id="97" idx="5"/>
                <a:endCxn id="99" idx="0"/>
              </p:cNvCxnSpPr>
              <p:nvPr/>
            </p:nvCxnSpPr>
            <p:spPr>
              <a:xfrm>
                <a:off x="5085000" y="3631320"/>
                <a:ext cx="157320" cy="426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105" name=""/>
            <p:cNvGrpSpPr/>
            <p:nvPr/>
          </p:nvGrpSpPr>
          <p:grpSpPr>
            <a:xfrm>
              <a:off x="3763800" y="4076640"/>
              <a:ext cx="1051560" cy="864000"/>
              <a:chOff x="3763800" y="4076640"/>
              <a:chExt cx="1051560" cy="864000"/>
            </a:xfrm>
          </p:grpSpPr>
          <p:sp>
            <p:nvSpPr>
              <p:cNvPr id="106" name=""/>
              <p:cNvSpPr/>
              <p:nvPr/>
            </p:nvSpPr>
            <p:spPr>
              <a:xfrm>
                <a:off x="3925800" y="4391280"/>
                <a:ext cx="242280" cy="236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30440" y="4076640"/>
                <a:ext cx="242280" cy="237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763800" y="4704120"/>
                <a:ext cx="242280" cy="236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73080" y="4704120"/>
                <a:ext cx="242280" cy="236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68440" y="4704120"/>
                <a:ext cx="242280" cy="23652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11" name=""/>
              <p:cNvCxnSpPr>
                <a:stCxn id="107" idx="2"/>
                <a:endCxn id="106" idx="7"/>
              </p:cNvCxnSpPr>
              <p:nvPr/>
            </p:nvCxnSpPr>
            <p:spPr>
              <a:xfrm flipH="1">
                <a:off x="4132080" y="4196160"/>
                <a:ext cx="198360" cy="2304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2" name=""/>
              <p:cNvCxnSpPr>
                <a:stCxn id="106" idx="3"/>
                <a:endCxn id="108" idx="0"/>
              </p:cNvCxnSpPr>
              <p:nvPr/>
            </p:nvCxnSpPr>
            <p:spPr>
              <a:xfrm flipH="1">
                <a:off x="3884760" y="4593240"/>
                <a:ext cx="76680" cy="111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3" name=""/>
              <p:cNvCxnSpPr>
                <a:stCxn id="106" idx="5"/>
                <a:endCxn id="110" idx="1"/>
              </p:cNvCxnSpPr>
              <p:nvPr/>
            </p:nvCxnSpPr>
            <p:spPr>
              <a:xfrm>
                <a:off x="4132440" y="4593240"/>
                <a:ext cx="71640" cy="145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14" name=""/>
              <p:cNvCxnSpPr>
                <a:stCxn id="107" idx="5"/>
                <a:endCxn id="109" idx="0"/>
              </p:cNvCxnSpPr>
              <p:nvPr/>
            </p:nvCxnSpPr>
            <p:spPr>
              <a:xfrm>
                <a:off x="4537440" y="4278600"/>
                <a:ext cx="157320" cy="425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</p:grpSp>
      <p:sp>
        <p:nvSpPr>
          <p:cNvPr id="115" name=""/>
          <p:cNvSpPr/>
          <p:nvPr/>
        </p:nvSpPr>
        <p:spPr>
          <a:xfrm>
            <a:off x="2700360" y="2852640"/>
            <a:ext cx="3965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Food Safety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containing multiple subontologie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nked to resources, da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80000" y="4724280"/>
            <a:ext cx="215640" cy="21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4724280"/>
            <a:ext cx="216000" cy="21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076640"/>
            <a:ext cx="216000" cy="21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....example excerpt from Food Safety Ontology.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48240" y="3103560"/>
            <a:ext cx="879480" cy="730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116680" y="2133720"/>
            <a:ext cx="879480" cy="730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59280" y="4067280"/>
            <a:ext cx="879480" cy="730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lkf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4076640"/>
            <a:ext cx="879480" cy="7304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ones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27720" y="4067280"/>
            <a:ext cx="879480" cy="7300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 b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2"/>
            <a:endCxn id="120" idx="7"/>
          </p:cNvCxnSpPr>
          <p:nvPr/>
        </p:nvCxnSpPr>
        <p:spPr>
          <a:xfrm flipH="1">
            <a:off x="4397040" y="2502000"/>
            <a:ext cx="720000" cy="7084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26" name=""/>
          <p:cNvCxnSpPr>
            <a:stCxn id="120" idx="3"/>
            <a:endCxn id="122" idx="0"/>
          </p:cNvCxnSpPr>
          <p:nvPr/>
        </p:nvCxnSpPr>
        <p:spPr>
          <a:xfrm flipH="1">
            <a:off x="3498840" y="3726000"/>
            <a:ext cx="278280" cy="342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0" idx="5"/>
            <a:endCxn id="124" idx="1"/>
          </p:cNvCxnSpPr>
          <p:nvPr/>
        </p:nvCxnSpPr>
        <p:spPr>
          <a:xfrm>
            <a:off x="4397040" y="3725640"/>
            <a:ext cx="259560" cy="448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21" idx="5"/>
            <a:endCxn id="123" idx="0"/>
          </p:cNvCxnSpPr>
          <p:nvPr/>
        </p:nvCxnSpPr>
        <p:spPr>
          <a:xfrm>
            <a:off x="5867280" y="2757600"/>
            <a:ext cx="511920" cy="1319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3850920" y="1989000"/>
            <a:ext cx="1148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ear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nth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7640" y="30686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530064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t a real ont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71640" y="573408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5300640"/>
            <a:ext cx="3167280" cy="122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0880" y="5203800"/>
            <a:ext cx="161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16360" y="558972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23" idx="1"/>
            <a:endCxn id="122" idx="7"/>
          </p:cNvCxnSpPr>
          <p:nvPr/>
        </p:nvCxnSpPr>
        <p:spPr>
          <a:xfrm flipV="1" rot="16200000">
            <a:off x="4933080" y="3048840"/>
            <a:ext cx="10440" cy="2258280"/>
          </a:xfrm>
          <a:prstGeom prst="curvedConnector5">
            <a:avLst>
              <a:gd name="adj1" fmla="val 3614285"/>
              <a:gd name="adj2" fmla="val 50000"/>
              <a:gd name="adj3" fmla="val 3614285"/>
            </a:avLst>
          </a:prstGeom>
          <a:ln w="9360">
            <a:solidFill>
              <a:srgbClr val="ff0000"/>
            </a:solidFill>
            <a:miter/>
          </a:ln>
        </p:spPr>
      </p:cxnSp>
      <p:sp>
        <p:nvSpPr>
          <p:cNvPr id="137" name=""/>
          <p:cNvSpPr/>
          <p:nvPr/>
        </p:nvSpPr>
        <p:spPr>
          <a:xfrm>
            <a:off x="4641480" y="3429000"/>
            <a:ext cx="114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ul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76360" y="2565360"/>
            <a:ext cx="692280" cy="58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050920" y="1484280"/>
            <a:ext cx="692280" cy="58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4"/>
            <a:endCxn id="138" idx="7"/>
          </p:cNvCxnSpPr>
          <p:nvPr/>
        </p:nvCxnSpPr>
        <p:spPr>
          <a:xfrm flipH="1">
            <a:off x="2066400" y="2070000"/>
            <a:ext cx="331200" cy="5814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1" name=""/>
          <p:cNvSpPr/>
          <p:nvPr/>
        </p:nvSpPr>
        <p:spPr>
          <a:xfrm>
            <a:off x="6372360" y="1844640"/>
            <a:ext cx="691920" cy="58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236000" y="1195560"/>
            <a:ext cx="691920" cy="58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2060640"/>
            <a:ext cx="691920" cy="58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2421000"/>
            <a:ext cx="692280" cy="585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39" idx="4"/>
            <a:endCxn id="144" idx="0"/>
          </p:cNvCxnSpPr>
          <p:nvPr/>
        </p:nvCxnSpPr>
        <p:spPr>
          <a:xfrm>
            <a:off x="2397240" y="2069640"/>
            <a:ext cx="721440" cy="351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6" name=""/>
          <p:cNvCxnSpPr>
            <a:stCxn id="142" idx="3"/>
            <a:endCxn id="141" idx="7"/>
          </p:cNvCxnSpPr>
          <p:nvPr/>
        </p:nvCxnSpPr>
        <p:spPr>
          <a:xfrm flipH="1">
            <a:off x="6962040" y="1695600"/>
            <a:ext cx="375480" cy="235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" name=""/>
          <p:cNvCxnSpPr>
            <a:stCxn id="142" idx="4"/>
            <a:endCxn id="143" idx="0"/>
          </p:cNvCxnSpPr>
          <p:nvPr/>
        </p:nvCxnSpPr>
        <p:spPr>
          <a:xfrm>
            <a:off x="7581600" y="1781280"/>
            <a:ext cx="144720" cy="280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" name=""/>
          <p:cNvCxnSpPr>
            <a:stCxn id="141" idx="2"/>
            <a:endCxn id="121" idx="6"/>
          </p:cNvCxnSpPr>
          <p:nvPr/>
        </p:nvCxnSpPr>
        <p:spPr>
          <a:xfrm flipH="1">
            <a:off x="5995440" y="2138040"/>
            <a:ext cx="37692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" name=""/>
          <p:cNvCxnSpPr>
            <a:stCxn id="144" idx="5"/>
            <a:endCxn id="120" idx="1"/>
          </p:cNvCxnSpPr>
          <p:nvPr/>
        </p:nvCxnSpPr>
        <p:spPr>
          <a:xfrm>
            <a:off x="3362040" y="2921040"/>
            <a:ext cx="415080" cy="2894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971640" y="5996160"/>
            <a:ext cx="215640" cy="21564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116000" y="585144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have already don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ailable mate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FS/OWL f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od safe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she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ROV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monstrations on using ont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line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fao.org/es/esn/publications/fna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ipfsaph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terature, presentations, use c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going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ed to merge different K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sh li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tology development for all domains concerned with “food safety” geography, food production, fisheries, natural disasters, crop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nutrition, etc. consid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isting ontologies/KOS at different stages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pectives and contex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ciplinary (fish as organism v. commodity v. staple food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ication-driven v.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as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ic alert system: which countries are in danger of nutrition/starvation  probl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ommendation for action: over production of crop X redistributed to starving countrie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ects of natural disasters on local industries [tsunami on fishing industry in S&amp;SE Asi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flow for “food safety” related ont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cl</cp:lastModifiedBy>
  <dcterms:modified xsi:type="dcterms:W3CDTF">2005-01-20T14:02:0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18936572</vt:r8>
  </property>
  <property fmtid="{D5CDD505-2E9C-101B-9397-08002B2CF9AE}" pid="3" name="_AuthorEmail">
    <vt:lpwstr>Anita.Liang@fao.org</vt:lpwstr>
  </property>
  <property fmtid="{D5CDD505-2E9C-101B-9397-08002B2CF9AE}" pid="4" name="_AuthorEmailDisplayName">
    <vt:lpwstr>Liang, Anita (GILW)</vt:lpwstr>
  </property>
  <property fmtid="{D5CDD505-2E9C-101B-9397-08002B2CF9AE}" pid="5" name="_EmailSubject">
    <vt:lpwstr>OLC case study at UN FAO</vt:lpwstr>
  </property>
</Properties>
</file>